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8D7-D192-4602-B231-9D8A740A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013-780D-4484-A450-70D96BE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0BA-7C47-43A7-A878-B6C32A01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B90-DFFA-482F-888B-40D66604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742-5BA8-40D3-B085-6D57BB9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A6C-697F-46A5-823F-D3CDC92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3C8-EA1E-4705-8045-0EF8400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EA4-6C68-4702-AF73-E9DB0E28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B85-01F9-4189-83A9-6DD8C18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EDD-6D70-403E-95EA-58F9E5E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D4E-513B-475F-A403-ED45405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5D5-7E5E-4E74-808D-5B4018B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A18-D526-4B2D-A60D-586968211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ther a family or as emplo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gath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seper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.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8-10-30T17:32:05Z</dcterms:modified>
  <cp:revision>1</cp:revision>
  <dc:subject/>
  <dc:title>PowerPoint Presentation</dc:title>
</cp:coreProperties>
</file>